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057-0BB2-4F6C-871B-5B97A263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FEF-B51F-4CB1-B5FC-CF328A17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C3E-13E0-4C10-894D-2C34A638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0E4-5E57-49D1-BF4F-640D314B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73C-8861-4074-A360-1AEDABEB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E97-0FE6-42A2-A0E4-7F10E971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0E9-43AD-44B3-9247-9A298367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FC0-3B72-4B50-8DF5-9CACA81D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DFB-BBC3-4A96-B0FA-23F3652C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06F-D117-4AD5-8581-D2D331D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56C-6E98-4B40-B93F-42B3E3D3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B37-F1B8-4BFD-AAFA-C45EB6DA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5C7C-0DD5-437B-A755-4D9249BA5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0400" y="3042720"/>
            <a:ext cx="844704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"/>
              </a:rPr>
              <a:t>Low-Power SRAM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Bodoni"/>
              </a:rPr>
              <a:t>ECE 4332 Fal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0120" y="4575240"/>
            <a:ext cx="661968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Team 2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Yanran C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Cary Conver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Chenqian G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David Mo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ingle Bit ECC, continu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quires significant overhea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ditional components requir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ity generation/check circuits: X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rection circuit: Inverter, 2:1 Multiplex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3040" y="228600"/>
            <a:ext cx="91440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af0d"/>
                </a:solidFill>
                <a:latin typeface="Bodoni"/>
              </a:rPr>
              <a:t>ECC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9000" y="2361960"/>
            <a:ext cx="44895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Parity Bit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(at writ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ent Placeholder 6" descr="ECCparity.png"/>
          <p:cNvPicPr/>
          <p:nvPr/>
        </p:nvPicPr>
        <p:blipFill>
          <a:blip r:embed="rId1"/>
          <a:stretch/>
        </p:blipFill>
        <p:spPr>
          <a:xfrm>
            <a:off x="279360" y="3124080"/>
            <a:ext cx="4489560" cy="2324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3280" y="1752480"/>
            <a:ext cx="495324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Parity Checking &amp; Corr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(at rea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ontent Placeholder 7" descr="ECCfix.png"/>
          <p:cNvPicPr/>
          <p:nvPr/>
        </p:nvPicPr>
        <p:blipFill>
          <a:blip r:embed="rId2"/>
          <a:stretch/>
        </p:blipFill>
        <p:spPr>
          <a:xfrm>
            <a:off x="5160960" y="2519280"/>
            <a:ext cx="44910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Design Considera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sure Voltage is high enough to protec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void extreme delay due to low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ze impact of ECC on area, del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mory block divis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Block Siz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709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deoff between block complexity and top level complex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maller blocks have lower access energy as shown using data from an early mod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ditional blocks require wider output muxes, more complicated distribution of Inpu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ose to use 16 256x256 blocks - later extended for EC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image (2).png"/>
          <p:cNvPicPr/>
          <p:nvPr/>
        </p:nvPicPr>
        <p:blipFill>
          <a:blip r:embed="rId1"/>
          <a:stretch/>
        </p:blipFill>
        <p:spPr>
          <a:xfrm>
            <a:off x="2565360" y="4191120"/>
            <a:ext cx="51814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ayout/ Notes on topolog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gh Vt bitcells to reduce leakage, and require less cell ratio, pull down ratio </a:t>
            </a:r>
            <a:r>
              <a:rPr b="0" lang="en-US" sz="2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reduced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locks of memory to decrease WL capacitanc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320840" y="3657600"/>
            <a:ext cx="73054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4-Bitcell Arr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07960" y="2336760"/>
            <a:ext cx="9144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60240" y="4114800"/>
            <a:ext cx="9042480" cy="3016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Block Layout (64kb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03040" y="1752480"/>
            <a:ext cx="9664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 Row Periphery, Column Periphery Comple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ray consumes majority of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s metal4 and l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7680" y="1371600"/>
            <a:ext cx="96645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CE 4332 2009 Group Projects Pages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Va ECE Wik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axiras, S., Zhigang, H., &amp; Martonosi, M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che Decay: Exploi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ional Behavior to Reduce Cache Leakage Pow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ational Symposium on Computer Architecture,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g, S., Kim, Y. B., &amp; Lombardi, F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Low-Leakage 9T SRAM Cel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Ultra-Low Power Ope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baey, J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gital Integrated Circuits: A Design Perspectiv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nt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ll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yan, J. F., &amp; Calhoun, B. H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izing Offset for Latching Volt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e Sense Amplifiers for Sub-Threshold Ope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ational Symposium on Quality Electronic Design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ng, A., Calhoun, B. H., &amp; Chandrakasan, A. P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-Threshol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for Ultra Low-Power Syste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Springer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tri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ric = (Active Energy per Access)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*Delay*Area*Idle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tive Energy per Access = 9.704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lay = 7.186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ea = ~1.2 mm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le Power = 57.78 u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Our Metric = 4.692e-41 J</a:t>
            </a:r>
            <a:r>
              <a:rPr b="1" i="1" lang="en-US" sz="2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*s*mm</a:t>
            </a:r>
            <a:r>
              <a:rPr b="1" i="1" lang="en-US" sz="2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*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tric Breakdown Valu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9120" y="1831680"/>
            <a:ext cx="9661680" cy="56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Bitcell Area = 0.649 um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d Energy = 9.678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Energy = 9.834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d Delay = 7.186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Delay = 6.491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le Power = 57.71 uW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h 0.3 V VD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sleep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&gt; 0.483 u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Full SRAM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422360" y="1752480"/>
            <a:ext cx="7248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mory Block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1951200"/>
            <a:ext cx="101599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pecial Features Overvi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tching Voltage Sense Amplif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ow Voltage (w/ sleep mod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ngle Bit Error Correcting Cod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atching Voltage Sense Amplifi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80" y="1819080"/>
            <a:ext cx="3708720" cy="54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zes BL sagging to reduce the energy/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faster rea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860640" y="2133720"/>
            <a:ext cx="613440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514760" y="6299280"/>
            <a:ext cx="448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dified from Ryan &amp; Calhoun, 200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ow Volt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Retention Voltag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.6 V for active op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.3 V for sleep m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LD butterfly plots at l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oltages indicate data c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retained when sleep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as low as 0.3 V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299280" y="1015920"/>
            <a:ext cx="3517920" cy="6108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327640" y="1117440"/>
            <a:ext cx="10936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Sleep VD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35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30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25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ingle Bit Error Correcting Cod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7360"/>
            <a:ext cx="966456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orta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ensate for smaller SNMs due to lower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intaining importan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mming Cod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6 Parity 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2 Data 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correction of 1 error per word, detection of 2 errors per wo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termine parity bits at Wr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rect word at 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crc4m</cp:lastModifiedBy>
  <dcterms:modified xsi:type="dcterms:W3CDTF">2010-12-07T13:36:51Z</dcterms:modified>
  <cp:revision>21</cp:revision>
  <dc:subject/>
  <dc:title>PowerPoint Presentation</dc:title>
</cp:coreProperties>
</file>